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447-A2FB-48E5-8A32-9F107254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C286-B549-47B7-84CC-0A36DF58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273-8EC3-4351-BF46-8A723561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15A-6389-4C4A-A8CA-E0B9361B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DC97-1F5C-4B5C-8CE0-4B8E2F76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8322-06E6-4A52-B623-DB9FF475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F5A4-AD71-4A71-A67B-02F22CE7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1EBA-713B-4A9B-93D3-B4D63DD9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213C-5A61-4700-BDDA-5181B679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9A8D-5894-466D-AD6B-D37C4711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5A22-BFDE-4308-9784-7B1E3254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130-4F93-4B75-BFEA-F774A73A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21F4-D631-4A13-8FB0-6BA3948E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AA38-0210-472E-82FA-E490B110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F011-0425-4528-84FF-1B1A8EE9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20C7-D23A-4A0F-BDD2-9D53013B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312A-8558-4678-8949-A99D1A27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424-30AA-4190-8CD2-4922C953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EAC8-4EF2-4A03-BABB-39B2A7D1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38CB-DC5D-494A-A749-CE2E3857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C9B-4DC4-4DA1-9612-917D5A83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8FD-15BD-4935-835A-C57B2115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D67-D35F-49D2-A8BE-5C826324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7AE-89AA-4EB1-906A-0C9E0E5A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5A24-DA16-4278-9E77-A32F4A5F33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94DA-4A95-4A48-8E1C-506C6C3DCB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28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Arial Black"/>
              </a:rPr>
              <a:t>WELCOME TO SCIENCE!</a:t>
            </a:r>
            <a:endParaRPr b="1" lang="en-US" sz="6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4920" y="41148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ptember 2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5880" y="3657600"/>
            <a:ext cx="2845080" cy="219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BC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are with your group something funny that happened this summ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Things Needed…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Ring Not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ition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it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7</a:t>
            </a:r>
            <a:r>
              <a:rPr b="1" lang="en-US" sz="4400" spc="-1" strike="noStrike" baseline="30000">
                <a:solidFill>
                  <a:srgbClr val="f8f8f8"/>
                </a:solidFill>
                <a:latin typeface="Arial Black"/>
              </a:rPr>
              <a:t>th</a:t>
            </a: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 Boys Book Checkout!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&amp; Number to Mrs. Riff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Guess Your Classmate </a:t>
            </a:r>
            <a:r>
              <a:rPr b="1" lang="en-US" sz="44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8</a:t>
            </a:r>
            <a:r>
              <a:rPr b="1" lang="en-US" sz="5400" spc="-1" strike="noStrike" baseline="30000">
                <a:solidFill>
                  <a:srgbClr val="f8f8f8"/>
                </a:solidFill>
                <a:latin typeface="Arial Black"/>
              </a:rPr>
              <a:t>th</a:t>
            </a: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 Science Journals!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get it started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HOMEWORK </a:t>
            </a: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(Quiz to Follow)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ize Chemical Sym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7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, He, B, C, N, 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8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, He, Li, Be, B, C, N, O, F, 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, Mg, Al, Si, P, S, Cl, 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Science </a:t>
            </a:r>
            <a:r>
              <a:rPr b="1" lang="en-US" sz="4800" spc="-1" strike="noStrike">
                <a:solidFill>
                  <a:srgbClr val="f8f8f8"/>
                </a:solidFill>
                <a:latin typeface="Arial Black"/>
              </a:rPr>
              <a:t>(To Discover)</a:t>
            </a:r>
            <a:endParaRPr b="1" lang="en-US" sz="4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y (Life Sci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tr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23:37:57Z</dcterms:created>
  <dc:creator>Sterling Grade School</dc:creator>
  <dc:description/>
  <dc:language>en-US</dc:language>
  <cp:lastModifiedBy>Sterling Grade School</cp:lastModifiedBy>
  <dcterms:modified xsi:type="dcterms:W3CDTF">2010-09-02T19:11:20Z</dcterms:modified>
  <cp:revision>3</cp:revision>
  <dc:subject/>
  <dc:title>WELCOME TO SCIENCE!</dc:title>
</cp:coreProperties>
</file>